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29C-52B8-4C9C-9E9A-62B3286D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D57-FB33-4365-AB53-60A9C4FA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C1C-7569-4352-AEC4-AECE3D63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28A-D190-4E74-A546-729BC81C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94F9-56BB-45B6-AFAF-A24AF406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7AF7-ACA9-4EFF-BE89-8D4C145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67FF-80F1-424D-B1CB-1E2722DA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EFC-A3ED-4BDF-A7C8-8226D73E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381-FC0D-4E5A-BB23-9708CA29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C6C-A9FC-4E60-B970-927F77C0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D338-746A-458F-9AA5-B6B3157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AFE-8966-46AA-A6C0-091D1A4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FAA2-BB63-44A8-8BF8-B889DAE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E1A2-5014-4EA2-8297-6FB4FD1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06DA-BC54-4133-A400-C72E8B8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EB11-540D-4D89-9B09-6542CC2C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BFEE-3372-4785-B79F-0E055AD4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1A4-FD6E-4F75-8E54-68C9FD6D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0B3-AF11-4B52-8D52-91E7184C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F0A-B7C9-45EE-85F9-66999E6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805-05E5-43CA-B2E0-A7EA13D0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42E-C483-4306-BF0E-3E7F43C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954-7D58-40E0-9A4F-3F167E88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0DC-3FAC-4E09-8421-A951B1A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0EDE-20C6-46EC-8AD3-1EFB67A5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965C-BFA6-401E-8FC8-4F3FB714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into computers/sto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ators (P.I.s, students, occasional bioinforma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pers, few people, £/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 of th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by keyword/gene/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/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uration (SVM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's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 Light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676520"/>
            <a:ext cx="388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67328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/community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Assessment of Community Annotation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3:02:47Z</dcterms:created>
  <dc:creator>Daniel Renfro</dc:creator>
  <dc:description/>
  <dc:language>en-US</dc:language>
  <cp:lastModifiedBy>GMOD / NESCent</cp:lastModifiedBy>
  <cp:lastPrinted>2010-09-24T17:48:19Z</cp:lastPrinted>
  <dcterms:modified xsi:type="dcterms:W3CDTF">2010-09-24T17:48:34Z</dcterms:modified>
  <cp:revision>10</cp:revision>
  <dc:subject/>
  <dc:title>Publications &amp; GMOD</dc:title>
</cp:coreProperties>
</file>